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BE7F0E-E405-4727-955F-C7B6263C31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8F3DCB-DA46-4775-BD73-E7DDD9D150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B3D89E-757F-4BA5-9BAA-67A13BDDB4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31CBF9-E7CC-402F-8652-5BE86E7818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426DF5-6116-43A0-B27E-24D9F9DD9D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06BCC3-B7EB-4201-9649-376D146CAB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1BAA7F-F175-49C6-A8B2-70FAC21F93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B6F17A-36BA-4CAB-AA27-FDE2854206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96C573-E95E-414D-9134-FF90E39658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0A855-4191-47B0-94A3-95CE754F3F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4ABF81-82C5-4C48-95C3-CF2A34BDE1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577A4-DB81-484E-A27E-2BC11F8508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C9CB0-1D14-4A1B-B447-07CC57E8C6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4126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Edwardian Script ITC"/>
              </a:rPr>
              <a:t>Joy Lee’s Career Exploration Project</a:t>
            </a:r>
            <a:endParaRPr b="0" lang="en-US" sz="96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lanning 10</a:t>
            </a:r>
            <a:endParaRPr b="0" lang="en-US" sz="1600" spc="-1" strike="noStrike">
              <a:solidFill>
                <a:srgbClr val="000000"/>
              </a:solidFill>
              <a:latin typeface="Arial"/>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lock D Mr McKillop</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Edwardian Script ITC"/>
              </a:rPr>
              <a:t>Income</a:t>
            </a:r>
            <a:endParaRPr b="0" lang="en-US" sz="72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Whats the starting income?</a:t>
            </a:r>
            <a:endParaRPr b="0" lang="en-US" sz="18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My starting income as a Entry-Level Athletic Therapist is $23,000 to $40,000 a year.</a:t>
            </a:r>
            <a:endParaRPr b="0" lang="en-US" sz="1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2-Whats the maximum income?</a:t>
            </a:r>
            <a:endParaRPr b="0" lang="en-US" sz="18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Therapists who Own of a Sports Medicine Clinic or work  professional sports teams can earn the maximum income of $50,000 to $80,000 a year</a:t>
            </a:r>
            <a:endParaRPr b="0" lang="en-US" sz="1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3-Will you be paid by salary or hourly pay?</a:t>
            </a:r>
            <a:endParaRPr b="0" lang="en-US" sz="18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By salary, it depends if the therapist is self employed or not.</a:t>
            </a:r>
            <a:endParaRPr b="0" lang="en-US" sz="1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4-Any benefits included in your pay? </a:t>
            </a:r>
            <a:endParaRPr b="0" lang="en-US" sz="1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 </a:t>
            </a:r>
            <a:r>
              <a:rPr b="0" i="1" lang="en-US" sz="1600" spc="-1" strike="noStrike">
                <a:solidFill>
                  <a:srgbClr val="000000"/>
                </a:solidFill>
                <a:latin typeface="Calibri"/>
              </a:rPr>
              <a:t>No.</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Edwardian Script ITC"/>
              </a:rPr>
              <a:t>Skills required</a:t>
            </a:r>
            <a:endParaRPr b="0" lang="en-US" sz="7200" spc="-1" strike="noStrike">
              <a:solidFill>
                <a:srgbClr val="000000"/>
              </a:solidFill>
              <a:latin typeface="Arial"/>
            </a:endParaRPr>
          </a:p>
        </p:txBody>
      </p:sp>
      <p:sp>
        <p:nvSpPr>
          <p:cNvPr id="62" name="PlaceHolder 2"/>
          <p:cNvSpPr>
            <a:spLocks noGrp="1"/>
          </p:cNvSpPr>
          <p:nvPr>
            <p:ph/>
          </p:nvPr>
        </p:nvSpPr>
        <p:spPr>
          <a:xfrm>
            <a:off x="468360" y="1413000"/>
            <a:ext cx="822960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skills required for job?</a:t>
            </a:r>
            <a:endParaRPr b="0" lang="en-US" sz="16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Advanced skills in athletic therapy including field assessment and injury treatment, and clinical assessment and rehabilitation for all types of injuries</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Entrepreneurial business skills to help you establish a practice</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Research skills to ensure you always stay current in the field</a:t>
            </a:r>
            <a:endParaRPr b="0" lang="en-US" sz="1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Any certificates needed?</a:t>
            </a:r>
            <a:endParaRPr b="0" lang="en-US" sz="16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In order to become a Certified Athletic Therapist, an individual must complete an academic program. They must then pass a certification exam with the minimum grade of 70% </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Certified Athletic therapists are also required to have a CPR certification at the level of a health care practitioner. </a:t>
            </a:r>
            <a:endParaRPr b="0" lang="en-US" sz="1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What skills are needed to advance higher in your field?</a:t>
            </a:r>
            <a:endParaRPr b="0" lang="en-US" sz="16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Advanced skills in athletic therapy including field assessment and injury treatment, and clinical assessment and rehabilitation for all types of injuries</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Entrepreneurial business skills to help you establish a practice</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Research skills to ensure you always stay current in the field</a:t>
            </a:r>
            <a:endParaRPr b="0" lang="en-US" sz="1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4-What tasks would you do when working this job? (4 examples)</a:t>
            </a:r>
            <a:endParaRPr b="0" lang="en-US" sz="16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assisting physicians with patients who have sports-related injuries. </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book appointments</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budget for the office </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manage other staff or students working with the therapis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Edwardian Script ITC"/>
              </a:rPr>
              <a:t>Working environment &amp; conditions</a:t>
            </a:r>
            <a:endParaRPr b="0" lang="en-US" sz="6000" spc="-1" strike="noStrike">
              <a:solidFill>
                <a:srgbClr val="000000"/>
              </a:solidFill>
              <a:latin typeface="Arial"/>
            </a:endParaRPr>
          </a:p>
        </p:txBody>
      </p:sp>
      <p:sp>
        <p:nvSpPr>
          <p:cNvPr id="64" name="PlaceHolder 2"/>
          <p:cNvSpPr>
            <a:spLocks noGrp="1"/>
          </p:cNvSpPr>
          <p:nvPr>
            <p:ph/>
          </p:nvPr>
        </p:nvSpPr>
        <p:spPr>
          <a:xfrm>
            <a:off x="468360" y="170028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Where do you work?</a:t>
            </a:r>
            <a:endParaRPr b="0" lang="en-US" sz="2400" spc="-1" strike="noStrike">
              <a:solidFill>
                <a:srgbClr val="000000"/>
              </a:solidFill>
              <a:latin typeface="Arial"/>
            </a:endParaRPr>
          </a:p>
          <a:p>
            <a:pPr marL="343080" indent="-343080">
              <a:lnSpc>
                <a:spcPct val="8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Athletic therapists working in office settings are usually required to do some administrative work. This may include booking appointments, budgeting for the office, and managing other staff or students working with the therapist. </a:t>
            </a:r>
            <a:br>
              <a:rPr sz="1600"/>
            </a:br>
            <a:br>
              <a:rPr sz="1600"/>
            </a:br>
            <a:r>
              <a:rPr b="0" i="1" lang="en-US" sz="1600" spc="-1" strike="noStrike">
                <a:solidFill>
                  <a:srgbClr val="000000"/>
                </a:solidFill>
                <a:latin typeface="Calibri"/>
              </a:rPr>
              <a:t>Other athletic therapists work in hospitals, assisting physicians with patients who have sports-related injuries. They may also work in universities, fitness centres, or with other health care professionals (such as chiropractors or physiotherapists). Established therapists may have their own independent practice.  </a:t>
            </a:r>
            <a:endParaRPr b="0" lang="en-US" sz="1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ny hazards?</a:t>
            </a:r>
            <a:endParaRPr b="0" lang="en-US" sz="24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There are electric shock hazards from High frequency physical therapy equipment </a:t>
            </a:r>
            <a:r>
              <a:rPr b="0" lang="en-US" sz="4000" spc="-1" strike="noStrike">
                <a:solidFill>
                  <a:srgbClr val="000000"/>
                </a:solidFill>
                <a:latin typeface="Arial"/>
              </a:rPr>
              <a:t> </a:t>
            </a:r>
            <a:endParaRPr b="0" lang="en-US" sz="4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Any safety/protective equipment needed?</a:t>
            </a:r>
            <a:endParaRPr b="0" lang="en-US" sz="2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Personal protective equipment such as gloves are needed.</a:t>
            </a:r>
            <a:endParaRPr b="0" lang="en-US" sz="1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Would you use any machines/equipment?</a:t>
            </a:r>
            <a:endParaRPr b="0" lang="en-US" sz="2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0" i="1" lang="en-US" sz="1400" spc="-1" strike="noStrike">
                <a:solidFill>
                  <a:srgbClr val="000000"/>
                </a:solidFill>
                <a:latin typeface="Calibri"/>
              </a:rPr>
              <a:t>Physical Therapy Equipment and computers are used for a physical therapis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Edwardian Script ITC"/>
              </a:rPr>
              <a:t>Job Outlook</a:t>
            </a:r>
            <a:endParaRPr b="0" lang="en-US" sz="72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Is your career field growing or declining in the number of workers?</a:t>
            </a:r>
            <a:endParaRPr b="0" lang="en-US" sz="16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The employment growth rate will likely be above average because of ongoing trends of a growing and aging</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population that requires more health care, Also there would be new technologies that create new treatments,</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and changes in the way governments provide health care. </a:t>
            </a:r>
            <a:endParaRPr b="0" lang="en-US" sz="14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Whats the unemployment rate for your career field?</a:t>
            </a:r>
            <a:endParaRPr b="0" lang="en-US" sz="16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2% for this career.</a:t>
            </a:r>
            <a:endParaRPr b="0" lang="en-US" sz="14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What do experts predict in the future for the amount of jobs in your career?</a:t>
            </a:r>
            <a:endParaRPr b="0" lang="en-US" sz="1600" spc="-1" strike="noStrike">
              <a:solidFill>
                <a:srgbClr val="000000"/>
              </a:solidFill>
              <a:latin typeface="Arial"/>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the retirement rate will likely be below average </a:t>
            </a:r>
            <a:endParaRPr b="0" lang="en-US" sz="1400" spc="-1" strike="noStrike">
              <a:solidFill>
                <a:srgbClr val="000000"/>
              </a:solidFill>
              <a:latin typeface="Arial"/>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the number of retiring workers should contribute to job openings.</a:t>
            </a:r>
            <a:endParaRPr b="0" lang="en-US" sz="1400" spc="-1" strike="noStrike">
              <a:solidFill>
                <a:srgbClr val="000000"/>
              </a:solidFill>
              <a:latin typeface="Arial"/>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The number of job seekers will likely exceed the number of job openings. This will not have an impact on the work prospects.</a:t>
            </a:r>
            <a:br>
              <a:rPr sz="1400"/>
            </a:br>
            <a:r>
              <a:rPr b="0" i="1" lang="en-US" sz="1400" spc="-1" strike="noStrike">
                <a:solidFill>
                  <a:srgbClr val="000000"/>
                </a:solidFill>
                <a:latin typeface="Calibri"/>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Edwardian Script ITC"/>
              </a:rPr>
              <a:t>Post-Secondary Training</a:t>
            </a:r>
            <a:endParaRPr b="0" lang="en-US" sz="72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rPr>
              <a:t>1-What kind of Post Secondary training is needed?</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Calibri"/>
              </a:rPr>
              <a:t>a bachelor's degree in sports studies or exercise science or a college program in sports injury</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Calibri"/>
              </a:rPr>
              <a:t>management.</a:t>
            </a:r>
            <a:r>
              <a:rPr b="0" i="1" lang="en-CA" sz="1400" spc="-1" strike="noStrike">
                <a:solidFill>
                  <a:srgbClr val="000000"/>
                </a:solidFill>
                <a:latin typeface="Arial"/>
              </a:rPr>
              <a:t> </a:t>
            </a:r>
            <a:endParaRPr b="0" lang="en-US" sz="14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alibri"/>
              </a:rPr>
              <a:t>2-How long will your Post Secondary Training take?</a:t>
            </a:r>
            <a:endParaRPr b="0" lang="en-US" sz="16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Calibri"/>
              </a:rPr>
              <a:t>6 years</a:t>
            </a:r>
            <a:endParaRPr b="0" lang="en-US" sz="14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alibri"/>
              </a:rPr>
              <a:t>3-Where can you take your Post Secondary Training?</a:t>
            </a:r>
            <a:endParaRPr b="0" lang="en-US" sz="16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Calibri"/>
              </a:rPr>
              <a:t>Camosun College for an undergraduate degree in athletic therapy</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Calibri"/>
              </a:rPr>
              <a:t>SFU for an undergraduate, masters, and doctoral degree in kinesiology and exercise scie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Edwardian Script ITC"/>
              </a:rPr>
              <a:t>High School Requirements</a:t>
            </a:r>
            <a:endParaRPr b="0" lang="en-US" sz="7200" spc="-1" strike="noStrike">
              <a:solidFill>
                <a:srgbClr val="000000"/>
              </a:solidFill>
              <a:latin typeface="Arial"/>
            </a:endParaRPr>
          </a:p>
        </p:txBody>
      </p:sp>
      <p:sp>
        <p:nvSpPr>
          <p:cNvPr id="70" name="PlaceHolder 2"/>
          <p:cNvSpPr>
            <a:spLocks noGrp="1"/>
          </p:cNvSpPr>
          <p:nvPr>
            <p:ph/>
          </p:nvPr>
        </p:nvSpPr>
        <p:spPr>
          <a:xfrm>
            <a:off x="395280" y="1413000"/>
            <a:ext cx="8229600" cy="4525920"/>
          </a:xfrm>
          <a:prstGeom prst="rect">
            <a:avLst/>
          </a:prstGeom>
          <a:noFill/>
          <a:ln w="0">
            <a:noFill/>
          </a:ln>
        </p:spPr>
        <p:txBody>
          <a:bodyPr lIns="90000" rIns="90000" tIns="46800" bIns="46800" anchor="t">
            <a:normAutofit fontScale="97000"/>
          </a:bodyPr>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What High school courses are needed for your career?</a:t>
            </a:r>
            <a:endParaRPr b="0" lang="en-US" sz="1800" spc="-1" strike="noStrike">
              <a:solidFill>
                <a:srgbClr val="000000"/>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Some helpful High School Courses would be:</a:t>
            </a:r>
            <a:endParaRPr b="0" lang="en-US" sz="1400" spc="-1" strike="noStrike">
              <a:solidFill>
                <a:srgbClr val="000000"/>
              </a:solidFill>
              <a:latin typeface="Arial"/>
            </a:endParaRPr>
          </a:p>
          <a:p>
            <a:pPr marL="332640" indent="-33264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English</a:t>
            </a:r>
            <a:endParaRPr b="0" lang="en-US" sz="1400" spc="-1" strike="noStrike">
              <a:solidFill>
                <a:srgbClr val="000000"/>
              </a:solidFill>
              <a:latin typeface="Arial"/>
            </a:endParaRPr>
          </a:p>
          <a:p>
            <a:pPr marL="332640" indent="-33264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Biology</a:t>
            </a:r>
            <a:endParaRPr b="0" lang="en-US" sz="1400" spc="-1" strike="noStrike">
              <a:solidFill>
                <a:srgbClr val="000000"/>
              </a:solidFill>
              <a:latin typeface="Arial"/>
            </a:endParaRPr>
          </a:p>
          <a:p>
            <a:pPr marL="332640" indent="-33264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Physics</a:t>
            </a:r>
            <a:endParaRPr b="0" lang="en-US" sz="1400" spc="-1" strike="noStrike">
              <a:solidFill>
                <a:srgbClr val="000000"/>
              </a:solidFill>
              <a:latin typeface="Arial"/>
            </a:endParaRPr>
          </a:p>
          <a:p>
            <a:pPr marL="332640" indent="-33264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English</a:t>
            </a:r>
            <a:endParaRPr b="0" lang="en-US" sz="1400" spc="-1" strike="noStrike">
              <a:solidFill>
                <a:srgbClr val="000000"/>
              </a:solidFill>
              <a:latin typeface="Arial"/>
            </a:endParaRPr>
          </a:p>
          <a:p>
            <a:pPr marL="332640" indent="-33264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Health and Physical education</a:t>
            </a:r>
            <a:endParaRPr b="0" lang="en-US" sz="1400" spc="-1" strike="noStrike">
              <a:solidFill>
                <a:srgbClr val="000000"/>
              </a:solidFill>
              <a:latin typeface="Arial"/>
            </a:endParaRPr>
          </a:p>
          <a:p>
            <a:pPr marL="332640" indent="-33264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Calculus</a:t>
            </a:r>
            <a:endParaRPr b="0" lang="en-US" sz="1400" spc="-1" strike="noStrike">
              <a:solidFill>
                <a:srgbClr val="000000"/>
              </a:solidFill>
              <a:latin typeface="Arial"/>
            </a:endParaRPr>
          </a:p>
          <a:p>
            <a:pPr marL="332640" indent="-33264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Chemistry</a:t>
            </a:r>
            <a:endParaRPr b="0" lang="en-US" sz="1400" spc="-1" strike="noStrike">
              <a:solidFill>
                <a:srgbClr val="000000"/>
              </a:solidFill>
              <a:latin typeface="Arial"/>
            </a:endParaRPr>
          </a:p>
          <a:p>
            <a:pPr marL="332640" indent="-33264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Computer courses</a:t>
            </a:r>
            <a:endParaRPr b="0" lang="en-US" sz="1400" spc="-1" strike="noStrike">
              <a:solidFill>
                <a:srgbClr val="000000"/>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2-Is there a GPA requirement?</a:t>
            </a:r>
            <a:endParaRPr b="0" lang="en-US" sz="1800" spc="-1" strike="noStrike">
              <a:solidFill>
                <a:srgbClr val="000000"/>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A minimum </a:t>
            </a:r>
            <a:r>
              <a:rPr b="1" i="1" lang="en-US" sz="1400" spc="-1" strike="noStrike">
                <a:solidFill>
                  <a:srgbClr val="000000"/>
                </a:solidFill>
                <a:latin typeface="Calibri"/>
              </a:rPr>
              <a:t>GPA</a:t>
            </a:r>
            <a:r>
              <a:rPr b="0" i="1" lang="en-US" sz="1400" spc="-1" strike="noStrike">
                <a:solidFill>
                  <a:srgbClr val="000000"/>
                </a:solidFill>
                <a:latin typeface="Calibri"/>
              </a:rPr>
              <a:t> of 3.00 over the most recent course work to a maximum of five is required.</a:t>
            </a:r>
            <a:endParaRPr b="0" lang="en-US" sz="1400" spc="-1" strike="noStrike">
              <a:solidFill>
                <a:srgbClr val="000000"/>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3-What type of volunteer activities are needed or will help you pursue this career?</a:t>
            </a:r>
            <a:endParaRPr b="0" lang="en-US" sz="1800" spc="-1" strike="noStrike">
              <a:solidFill>
                <a:srgbClr val="000000"/>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Volunteer in an athletic environment will help you get the feel of becoming an athletic therapist.</a:t>
            </a:r>
            <a:endParaRPr b="0" lang="en-US" sz="1400" spc="-1" strike="noStrike">
              <a:solidFill>
                <a:srgbClr val="000000"/>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4-Any other types of activities while in High school that will enhance your career goals?</a:t>
            </a:r>
            <a:endParaRPr b="0" lang="en-US" sz="1800" spc="-1" strike="noStrike">
              <a:solidFill>
                <a:srgbClr val="000000"/>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Joining a sport will give basic knowledge that will help you in your career in the futu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169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reer choice #1</a:t>
            </a:r>
            <a:endParaRPr b="0" lang="en-US" sz="4400" spc="-1" strike="noStrike">
              <a:solidFill>
                <a:srgbClr val="000000"/>
              </a:solidFill>
              <a:latin typeface="Arial"/>
            </a:endParaRPr>
          </a:p>
        </p:txBody>
      </p:sp>
      <p:sp>
        <p:nvSpPr>
          <p:cNvPr id="44" name="PlaceHolder 2"/>
          <p:cNvSpPr>
            <a:spLocks noGrp="1"/>
          </p:cNvSpPr>
          <p:nvPr>
            <p:ph/>
          </p:nvPr>
        </p:nvSpPr>
        <p:spPr>
          <a:xfrm>
            <a:off x="468360" y="3500280"/>
            <a:ext cx="8229600" cy="1617840"/>
          </a:xfrm>
          <a:prstGeom prst="rect">
            <a:avLst/>
          </a:prstGeom>
          <a:noFill/>
          <a:ln w="0">
            <a:noFill/>
          </a:ln>
        </p:spPr>
        <p:txBody>
          <a:bodyPr lIns="90000" rIns="90000" tIns="46800" bIns="46800" anchor="t">
            <a:normAutofit/>
          </a:bodyPr>
          <a:p>
            <a:pPr marL="343080" indent="0" algn="ctr">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Edwardian Script ITC"/>
              </a:rPr>
              <a:t>Kinesiologist</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Edwardian Script ITC"/>
              </a:rPr>
              <a:t>Income</a:t>
            </a:r>
            <a:endParaRPr b="0" lang="en-US" sz="72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Whats the starting income?</a:t>
            </a:r>
            <a:endParaRPr b="0" lang="en-US" sz="16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The starting income as an Entry-Level Kinesiologist is $25,000 to $40,000 a year.</a:t>
            </a:r>
            <a:endParaRPr b="0" lang="en-US" sz="14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Whats the maximum income?</a:t>
            </a:r>
            <a:endParaRPr b="0" lang="en-US" sz="16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The maximum income as a self-employed consultant or Business Owner is $50,000 to $100,000 a year.</a:t>
            </a:r>
            <a:endParaRPr b="0" lang="en-US" sz="14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Will you be paid by salary or hourly pay?</a:t>
            </a:r>
            <a:endParaRPr b="0" lang="en-US" sz="16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By salary, but it depends on the employer.</a:t>
            </a:r>
            <a:endParaRPr b="0" lang="en-US" sz="14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4-Any benefits included in your pay? </a:t>
            </a:r>
            <a:endParaRPr b="0" lang="en-US" sz="16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Kinesiologists employed on a full-time basis can receive dental coverage, paid sick days, and vacation time. While Self-employed</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kinesiologists have to provide their own benefits. </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Edwardian Script ITC"/>
              </a:rPr>
              <a:t>Skills required</a:t>
            </a:r>
            <a:endParaRPr b="0" lang="en-US" sz="7200" spc="-1" strike="noStrike">
              <a:solidFill>
                <a:srgbClr val="000000"/>
              </a:solidFill>
              <a:latin typeface="Arial"/>
            </a:endParaRPr>
          </a:p>
        </p:txBody>
      </p:sp>
      <p:sp>
        <p:nvSpPr>
          <p:cNvPr id="48" name="PlaceHolder 2"/>
          <p:cNvSpPr>
            <a:spLocks noGrp="1"/>
          </p:cNvSpPr>
          <p:nvPr>
            <p:ph/>
          </p:nvPr>
        </p:nvSpPr>
        <p:spPr>
          <a:xfrm>
            <a:off x="468360" y="1413000"/>
            <a:ext cx="822960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Skills required for job?</a:t>
            </a:r>
            <a:endParaRPr b="0" lang="en-US" sz="16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self-confidence combined with leadership and critical thinking skills</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oral and written communication skills</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patience and flexibility in their relationships with others</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an interest in keeping up to date with new technology</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teamwork skills</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an interest in scientific research.</a:t>
            </a:r>
            <a:endParaRPr b="0" lang="en-US" sz="1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Any certificates needed?</a:t>
            </a:r>
            <a:endParaRPr b="0" lang="en-US" sz="16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Some provinces have kinesiology associations. Membership in these associations is not compulsory, but it may</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be preferred by employers. Also, it’s a good idea to get some training in CPR and first aid. </a:t>
            </a:r>
            <a:endParaRPr b="0" lang="en-US" sz="1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What skills are needed to advance higher in your field?</a:t>
            </a:r>
            <a:endParaRPr b="0" lang="en-US" sz="16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Applied Counselling Skills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4-What tasks would you do when working this job? (4 examples)</a:t>
            </a:r>
            <a:endParaRPr b="0" lang="en-US" sz="16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Treat people and improve their performance in sports, in recreation, and at work. </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Design programs and routines to prevent, manage, and rehabilitate injuries. </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Keep records of client’s treatment plans, progress made, and recommendations for further treatment and discharge. </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Show clients how to manage their injuries and disabilities.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Edwardian Script ITC"/>
              </a:rPr>
              <a:t>Working environment &amp; conditions</a:t>
            </a:r>
            <a:endParaRPr b="0" lang="en-US" sz="6000" spc="-1" strike="noStrike">
              <a:solidFill>
                <a:srgbClr val="000000"/>
              </a:solidFill>
              <a:latin typeface="Arial"/>
            </a:endParaRPr>
          </a:p>
        </p:txBody>
      </p:sp>
      <p:sp>
        <p:nvSpPr>
          <p:cNvPr id="50" name="PlaceHolder 2"/>
          <p:cNvSpPr>
            <a:spLocks noGrp="1"/>
          </p:cNvSpPr>
          <p:nvPr>
            <p:ph/>
          </p:nvPr>
        </p:nvSpPr>
        <p:spPr>
          <a:xfrm>
            <a:off x="468360" y="1700280"/>
            <a:ext cx="822960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Where do you work?</a:t>
            </a:r>
            <a:endParaRPr b="0" lang="en-US" sz="16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Clinical kinesiologists work in private clinics, hospitals, and research facilities. </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Vocational rehabilitation kinesiologists work for workers compensation boards as caseworkers, ergonomists, physical assessment and rehabilitation specialists, and consultants. </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Some work for insurance companies as compensation advisors. Many work in other industries as work site analysts, and occupational health and safety advisors. </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Kinesiologists also work for universities in research areas, and as undergraduate advisors and teaching assistants. </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Others may work for fitness clubs, pharmaceutical sales companies, and medical rehabilitative products companies. </a:t>
            </a:r>
            <a:endParaRPr b="0" lang="en-US" sz="1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Any hazards?</a:t>
            </a:r>
            <a:endParaRPr b="0" lang="en-US" sz="16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Kinesiologists need to be able to lift and manoeuvre clients. Reaching, crouching, and lifting are required when</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setting up equipment and demonstrating treatment programs. Therefore, a kinesiologist must be in good</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Physical condition to avoid any hazards.</a:t>
            </a:r>
            <a:endParaRPr b="0" lang="en-US" sz="1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Any safety/protective equipment needed?</a:t>
            </a:r>
            <a:endParaRPr b="0" lang="en-US" sz="16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No. Not specifically.</a:t>
            </a:r>
            <a:endParaRPr b="0" lang="en-US" sz="1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4-Would you use any machines/equipment?</a:t>
            </a:r>
            <a:endParaRPr b="0" lang="en-US" sz="16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0" i="1" lang="en-US" sz="1400" spc="-1" strike="noStrike">
                <a:solidFill>
                  <a:srgbClr val="000000"/>
                </a:solidFill>
                <a:latin typeface="Calibri"/>
              </a:rPr>
              <a:t>Kinesiologists employed in laboratory research and ergonomic design usually work long hours in front of the compute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Edwardian Script ITC"/>
              </a:rPr>
              <a:t>Job Outlook</a:t>
            </a:r>
            <a:endParaRPr b="0" lang="en-US" sz="72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Is your career field growing or declining in the number of workers?</a:t>
            </a:r>
            <a:endParaRPr b="0" lang="en-US" sz="14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It’s growing for the demand for kinesiologists is related to the aging population and increased attention to the needs of disabled persons and accident victims. Opportunities will be better in private practices outside of the institutional health care setting.</a:t>
            </a:r>
            <a:r>
              <a:rPr b="0" lang="en-US" sz="1200" spc="-1" strike="noStrike">
                <a:solidFill>
                  <a:srgbClr val="000000"/>
                </a:solidFill>
                <a:latin typeface="Calibri"/>
              </a:rPr>
              <a:t> </a:t>
            </a:r>
            <a:endParaRPr b="0" lang="en-US" sz="12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Whats the unemployment rate for your career field?</a:t>
            </a:r>
            <a:endParaRPr b="0" lang="en-US" sz="14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The unemployment rate (3%) is close to the 2004 average (7%). </a:t>
            </a:r>
            <a:endParaRPr b="0" lang="en-US" sz="12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What do experts predict in the future for the amount of jobs in your career?</a:t>
            </a:r>
            <a:endParaRPr b="0" lang="en-US" sz="1400" spc="-1" strike="noStrike">
              <a:solidFill>
                <a:srgbClr val="000000"/>
              </a:solidFill>
              <a:latin typeface="Arial"/>
            </a:endParaRPr>
          </a:p>
          <a:p>
            <a:pPr marL="343080" indent="-343080">
              <a:lnSpc>
                <a:spcPct val="10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The employment growth rate will likely be close to the average. </a:t>
            </a:r>
            <a:endParaRPr b="0" lang="en-US" sz="1200" spc="-1" strike="noStrike">
              <a:solidFill>
                <a:srgbClr val="000000"/>
              </a:solidFill>
              <a:latin typeface="Arial"/>
            </a:endParaRPr>
          </a:p>
          <a:p>
            <a:pPr marL="343080" indent="-343080">
              <a:lnSpc>
                <a:spcPct val="10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 </a:t>
            </a:r>
            <a:r>
              <a:rPr b="0" i="1" lang="en-US" sz="1200" spc="-1" strike="noStrike">
                <a:solidFill>
                  <a:srgbClr val="000000"/>
                </a:solidFill>
                <a:latin typeface="Calibri"/>
              </a:rPr>
              <a:t>The retirement rate will likely be above average and the number of retiring workers should contribute to job openings. </a:t>
            </a:r>
            <a:endParaRPr b="0" lang="en-US" sz="1200" spc="-1" strike="noStrike">
              <a:solidFill>
                <a:srgbClr val="000000"/>
              </a:solidFill>
              <a:latin typeface="Arial"/>
            </a:endParaRPr>
          </a:p>
          <a:p>
            <a:pPr marL="343080" indent="-343080">
              <a:lnSpc>
                <a:spcPct val="10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The number of job seekers will likely exceed the number of job openings.</a:t>
            </a:r>
            <a:endParaRPr b="0" lang="en-US" sz="1200" spc="-1" strike="noStrike">
              <a:solidFill>
                <a:srgbClr val="000000"/>
              </a:solidFill>
              <a:latin typeface="Arial"/>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Edwardian Script ITC"/>
              </a:rPr>
              <a:t>Post-Secondary Training</a:t>
            </a:r>
            <a:endParaRPr b="0" lang="en-US" sz="72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What kind of Post Secondary training is needed?</a:t>
            </a:r>
            <a:endParaRPr b="0" lang="en-US" sz="14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A University Degree in Kinesiology, Human Kinetics, or other health-science-related field or Master’s Degree in Physical Education.</a:t>
            </a:r>
            <a:endParaRPr b="0" lang="en-US" sz="12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How long will your Post Secondary Training take?</a:t>
            </a:r>
            <a:endParaRPr b="0" lang="en-US" sz="14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4-7 years </a:t>
            </a:r>
            <a:endParaRPr b="0" lang="en-US" sz="12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Where can you take your Post Secondary Training?</a:t>
            </a:r>
            <a:endParaRPr b="0" lang="en-US" sz="14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Simon Fraser University and the University of British Columbia offers undergraduate, doctoral, and masters degree program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Edwardian Script ITC"/>
              </a:rPr>
              <a:t>High School Requirements</a:t>
            </a:r>
            <a:endParaRPr b="0" lang="en-US" sz="72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What High school courses are needed for your career?</a:t>
            </a:r>
            <a:endParaRPr b="0" lang="en-US" sz="1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Some helpful High School Courses would be:</a:t>
            </a:r>
            <a:endParaRPr b="0" lang="en-US" sz="1200" spc="-1" strike="noStrike">
              <a:solidFill>
                <a:srgbClr val="000000"/>
              </a:solidFill>
              <a:latin typeface="Arial"/>
            </a:endParaRPr>
          </a:p>
          <a:p>
            <a:pPr marL="343080" indent="-343080">
              <a:lnSpc>
                <a:spcPct val="9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Business </a:t>
            </a:r>
            <a:endParaRPr b="0" lang="en-US" sz="1200" spc="-1" strike="noStrike">
              <a:solidFill>
                <a:srgbClr val="000000"/>
              </a:solidFill>
              <a:latin typeface="Arial"/>
            </a:endParaRPr>
          </a:p>
          <a:p>
            <a:pPr marL="343080" indent="-343080">
              <a:lnSpc>
                <a:spcPct val="9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English</a:t>
            </a:r>
            <a:endParaRPr b="0" lang="en-US" sz="1200" spc="-1" strike="noStrike">
              <a:solidFill>
                <a:srgbClr val="000000"/>
              </a:solidFill>
              <a:latin typeface="Arial"/>
            </a:endParaRPr>
          </a:p>
          <a:p>
            <a:pPr marL="343080" indent="-343080">
              <a:lnSpc>
                <a:spcPct val="9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Math (Calculus and Algebra &amp;Geometry)</a:t>
            </a:r>
            <a:endParaRPr b="0" lang="en-US" sz="1200" spc="-1" strike="noStrike">
              <a:solidFill>
                <a:srgbClr val="000000"/>
              </a:solidFill>
              <a:latin typeface="Arial"/>
            </a:endParaRPr>
          </a:p>
          <a:p>
            <a:pPr marL="343080" indent="-343080">
              <a:lnSpc>
                <a:spcPct val="9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Probability &amp; Statistics </a:t>
            </a:r>
            <a:endParaRPr b="0" lang="en-US" sz="1200" spc="-1" strike="noStrike">
              <a:solidFill>
                <a:srgbClr val="000000"/>
              </a:solidFill>
              <a:latin typeface="Arial"/>
            </a:endParaRPr>
          </a:p>
          <a:p>
            <a:pPr marL="343080" indent="-343080">
              <a:lnSpc>
                <a:spcPct val="9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Sciences (Physics, Chemistry, Biology)</a:t>
            </a:r>
            <a:endParaRPr b="0" lang="en-US" sz="1200" spc="-1" strike="noStrike">
              <a:solidFill>
                <a:srgbClr val="000000"/>
              </a:solidFill>
              <a:latin typeface="Arial"/>
            </a:endParaRPr>
          </a:p>
          <a:p>
            <a:pPr marL="343080" indent="-343080">
              <a:lnSpc>
                <a:spcPct val="9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Social Studies </a:t>
            </a:r>
            <a:endParaRPr b="0" lang="en-US" sz="1200" spc="-1" strike="noStrike">
              <a:solidFill>
                <a:srgbClr val="000000"/>
              </a:solidFill>
              <a:latin typeface="Arial"/>
            </a:endParaRPr>
          </a:p>
          <a:p>
            <a:pPr marL="343080" indent="-343080">
              <a:lnSpc>
                <a:spcPct val="9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Health &amp; Physical Education </a:t>
            </a:r>
            <a:endParaRPr b="0" lang="en-US" sz="1200" spc="-1" strike="noStrike">
              <a:solidFill>
                <a:srgbClr val="000000"/>
              </a:solidFill>
              <a:latin typeface="Arial"/>
            </a:endParaRPr>
          </a:p>
          <a:p>
            <a:pPr marL="343080" indent="-343080">
              <a:lnSpc>
                <a:spcPct val="9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Computer related courses</a:t>
            </a:r>
            <a:endParaRPr b="0" lang="en-US" sz="12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Is there a GPA requirement?</a:t>
            </a:r>
            <a:endParaRPr b="0" lang="en-US" sz="1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Kinesiology (Athletic Training) (BS) (2.70)</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Kinesiology (Fitness, Nutrition, Health) (BS) (2.70)</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Kinesiology (Physical Education) (BS) (2.70)</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Kinesiology (Pre-physical Therapy) (BS) (2.70) </a:t>
            </a:r>
            <a:endParaRPr b="0" lang="en-US" sz="12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What type of volunteer activities are needed or will help you pursue this career?</a:t>
            </a:r>
            <a:endParaRPr b="0" lang="en-US" sz="1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volunteer work at a clinic or hospital will give you a feel for the kinesiologist’s working environment. </a:t>
            </a:r>
            <a:endParaRPr b="0" lang="en-US" sz="12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Any other types of activities while in High school that will enhance your career goals?</a:t>
            </a:r>
            <a:endParaRPr b="0" lang="en-US" sz="1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Joining a sports team will help give basic knowledge of what this career is about, Also several science and math courses can help with the components of this caree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68360" y="169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reer choice #2</a:t>
            </a:r>
            <a:endParaRPr b="0" lang="en-US" sz="4400" spc="-1" strike="noStrike">
              <a:solidFill>
                <a:srgbClr val="000000"/>
              </a:solidFill>
              <a:latin typeface="Arial"/>
            </a:endParaRPr>
          </a:p>
        </p:txBody>
      </p:sp>
      <p:sp>
        <p:nvSpPr>
          <p:cNvPr id="58" name="PlaceHolder 2"/>
          <p:cNvSpPr>
            <a:spLocks noGrp="1"/>
          </p:cNvSpPr>
          <p:nvPr>
            <p:ph/>
          </p:nvPr>
        </p:nvSpPr>
        <p:spPr>
          <a:xfrm>
            <a:off x="468360" y="3500280"/>
            <a:ext cx="8229600" cy="1617840"/>
          </a:xfrm>
          <a:prstGeom prst="rect">
            <a:avLst/>
          </a:prstGeom>
          <a:noFill/>
          <a:ln w="0">
            <a:noFill/>
          </a:ln>
        </p:spPr>
        <p:txBody>
          <a:bodyPr lIns="90000" rIns="90000" tIns="46800" bIns="46800" anchor="t">
            <a:normAutofit fontScale="72000"/>
          </a:bodyPr>
          <a:p>
            <a:pPr marL="246960" indent="0" algn="ctr">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Edwardian Script ITC"/>
              </a:rPr>
              <a:t>Athletic Therapist</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2T18:08:47Z</dcterms:created>
  <dc:creator>kibbeum.lee</dc:creator>
  <dc:description/>
  <dc:language>en-US</dc:language>
  <cp:lastModifiedBy>kibbeum.lee</cp:lastModifiedBy>
  <dcterms:modified xsi:type="dcterms:W3CDTF">2010-03-04T17:09:43Z</dcterms:modified>
  <cp:revision>6</cp:revision>
  <dc:subject/>
  <dc:title>Joy Lee’s Career Exploration Project</dc:title>
</cp:coreProperties>
</file>